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9FE3CC4-59CC-455C-821A-2084109DB08E}"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87A11F0-63FB-448C-B529-81BD299250D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6720F1F-088F-499E-9297-49D888A698F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1265B03-BC8C-42BD-A607-67BB5D5759D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FF63B8E-E1D5-4548-9E6C-A5D53B9B9B3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20DA9C3-EF96-4C23-A9FA-22A2F90B658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08A1B4A-6FD1-4DAC-84F8-032C0BA56F2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A36B5B6-2126-4D96-9A6A-D82D2BC518F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DFC5E12-5DAD-44A4-B33D-A1A881B29A9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EDACD1A-722F-4F9F-B5B4-F5E876A7BDA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EABCE9F-4CF9-43E3-BCE7-C77A2F1E8B2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449B3D4-68AD-4B3B-A92C-ED7B37A4BE9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E4975DE-3B0F-4541-AFCC-BD6EAD2F37D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C6D9372-32DF-4148-931C-078C308D45D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A85C867-7881-4144-B29A-8E38CA9EE45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951B3B4-1D79-4914-9C43-0CA1A6B1382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F8A8E38-38EB-49CC-A2F3-29A4C124A11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9DF9BAF-9509-43D7-BFFF-F1CE78CDD36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45B76AF-1EC0-4B66-B753-5A8CA2B52FC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9AD17CD-5FCF-4BA9-9211-0485D25C06C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C2E56FE-3DE2-4806-8D10-40223361586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17606FD-F7D1-4A7A-8F10-83783F65D9B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B61E64D-91B0-43D6-A2D9-BB7904009D6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32CBF02-6AF1-4D62-9664-8CAA7B600C5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E982AC7-FBF0-40A6-B24A-1E2D3D1C240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80D26A7-BE14-4AE6-B4C7-94C03E88463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7972A-5F4B-4949-8D16-AABEC842A494}"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DC255-180F-4346-AF24-3B34B76EEBE3}"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ACC0BC4-7181-45E0-B2C6-657EE8FBDCBA}"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EF5E0E9-20FB-421F-85E0-3AC154F18F00}"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617AD20-7C7E-46CF-B60D-F0F8FF25D8AA}"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20BC026-83C4-4BC3-A088-46EA7F1CF9CE}"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1373834-C91A-4FDA-8D3A-815F010A56AC}"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CCC8281-0F8C-41CD-9BD5-A26487C6DBEF}"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86207EE-0E81-4590-ACC7-93678EC99B08}"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AD7B6ED-EFF4-402C-94EC-7503E8094155}"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8AC6124-B0AC-48DA-82E0-338EF33A99B5}"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3F66EA4-196F-4E98-9AFD-F5E38605403B}"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80CFBE0-9884-4468-991F-3AA27724CEDA}"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3FC8D2F-CEAE-4E7D-A945-6C7007A21114}"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7429CC6-4C1A-4631-97C4-6BDEFD1052B4}"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10F7448-654E-429E-8E35-0BD96E93B443}"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C3696C4-4EF0-4262-BAEE-3B264880CB85}"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F6D9098-1BC3-44A6-B7F7-EFCD2952834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9112E9C-B711-4A9B-B72F-7E27F8C6F920}"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B62D6FD-A4C6-4498-A823-1F612F080F1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F7BB8CAF-CF4A-458B-B6E8-1D6E3CE5159F}"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F3E417F-E176-4CBC-84D3-ADAAEFDC84A3}"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68F0E49-5FF6-4118-9163-1F3D7551919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5811005-2A56-486E-B799-D92983FCEC9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CFAB92F-488B-4FE6-86BE-D2EB3F85537D}"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C0FE111-19D2-419A-8351-52B0EB68DED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DEAD961-7200-441D-B946-CD1CF331A11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00014AB-9720-4F44-BD8E-D3BCCE071C5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C6576CA-C307-478D-9E41-673FDB9B00E3}"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8BF6520-1410-4A5A-9439-3DBA33797DA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B405C9D-F7E5-4D53-88FD-CF87B19A065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6EA98E3-37F1-4915-AA49-F7D31925699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99989F1-B58F-4635-830E-F0795BD5BB9C}"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A3B18B7-D232-43DD-AEA7-C13CB1A6D99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04F9E37-77DF-40CD-8E5B-DCB2AB430A7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D2D8850-EA1A-4A65-974B-F68AC67B2E7F}"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8FA33E3-DECC-4A42-9125-8E1B3A6D7B8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BE87981-E5B1-4A38-A9DA-B05EBD90C55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244EA04-7023-4F22-BE63-4E380A669FE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A5397C4-3B13-456E-AD98-2B51C1E36F4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7163B73-0CE4-4A7A-9050-31BDE9C72304}"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A653D9D-6A92-4711-81BE-8B98E8C72103}"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7D3BE39-9E9B-48D2-B884-E69F273A4042}"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5B7CC04-6280-4CA8-9172-901B40FA3E2D}"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1BE9956-8211-4EB4-9EF6-AB5071566E6D}"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9A4973D-66FB-4117-82DF-19CC6B6D3DEC}"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49E716F-2542-4AEE-ACF0-574036524DCA}"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3DB5672-88EC-4BDD-B947-DB6522038E8E}"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574DCD9-C0A7-4BE2-9CD5-95D97418A27B}"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F380253-E6DE-40C2-8A9B-58838CE8A5A9}"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5616B75-316E-4D30-B189-02C6098EBDF0}"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D176FCD-FE1E-409E-8FA0-E3F7C1E68DB4}"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F9229BA-5809-4E84-B035-C219846835D9}"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175A3B9-8FE1-47E6-A9F8-F8DEC5CE8A59}"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793957E-5DB3-4C26-AC7C-854E7B63F3F2}"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905BAF0-213B-4B97-9904-68D8C4FE7912}"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8F2302A-ED71-4E8A-9420-5A39A52F2C51}"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35464DC-0E39-4B9C-B3AA-18B4F95F14D1}"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0D5F645-C5A4-4E3E-B802-4C58914240C7}"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ADF8E10-F947-46EC-90EB-F202814D407C}"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E5DE0D1-718D-4E03-84CA-F3F553989FA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A1BB672-F81C-4687-9A5D-FE23B7BACDFA}"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7CBF23F-71FB-4EFF-A48B-E53599386145}"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DAB0B5E-47B0-453A-899C-C9BD291E5C41}"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DC21FCE-4B7D-45FD-8397-2C7DBFAA7AE6}"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433192C-1430-4E8C-870A-B9CA3F1E3B93}"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AEF3BF9-8FF1-447F-BB37-31DA32CC8264}"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8625199-5197-4054-B2A6-F1679293A24A}"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A3B2D5F-2FE0-4E13-ACFF-78BE9CDF1BCF}"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CDD8FDB-3733-4925-861A-A7670E4C9BF4}"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3AD1C8A-D659-4C47-96B5-0146846C30C8}"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1B2CB0F-9207-4CC6-A5AE-9F20D3EFE3C6}"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2EEF95C-D10F-4F55-8ED4-F29BB4FA9961}"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19B48A3-DBF6-411C-901B-0F119AC1ABE3}"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986C0B4-6E43-482F-B07D-C1BA19AF4949}"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7685B03-7AB4-43B6-AFF0-D64EF6B2EC89}"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D4CC578-4E05-4788-8B83-F2F50C174512}"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AF7905A-8382-46B9-A9B4-A3D625E6EECA}"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0FCA298-B3B8-4BD0-AEC6-2A4021BE703D}"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4939BA5-BBC7-4341-9158-782C87857956}"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8BB4DBD-6C14-475E-AFBA-6901851AC912}"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8EF051F-826D-4216-90A6-F11124B28173}"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A260599-273E-434E-8E2B-4ACE918617E5}"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455020B-CE66-44DF-8C7B-1EB8D313C700}"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2190E23-7B46-4A11-B329-08765B519E4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FF152CE-D378-43E4-A981-AF6B47AEC7C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897148A-FAE5-4F09-B50C-4D54E93E931F}"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3A782BB-B6F8-43EC-A2E8-722BFBDC0B5C}"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5C93BF3-98FA-4206-A750-EBB4EACB81F2}"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378029F-8221-40C6-8D13-6AF839FF5A6A}"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9DD36D3-75C4-4E11-9E73-4DBC4D6C4FC3}"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A17C50F-BB5C-4DBF-8A54-EF97400FA815}"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B712060-EB4D-4BBC-9F26-AB67EE547CB1}"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CCCC44A-B8BA-41C4-9B63-92A50645DD97}"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8058EB5-5B98-4352-8373-09728AD72F6E}"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BE9750F-FC24-4B3B-9F8A-2B87DFDBAC0F}"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37686BD6-F5FD-419F-9887-3090B520C110}"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AC1C167-15CB-4196-94C0-6EB5FBE5FB3F}"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E3D29FA-9490-45C3-B071-E441205303A1}"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A3D5A64-2EF5-4C02-92D4-48AEC6AB41F2}"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5171167-63E3-47F0-806F-206005083088}"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462E95D-41BC-417C-9465-8132E3F829ED}"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1054F91-ACC6-435B-A5B9-274043CA937A}"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838420B-8958-4354-AA19-7B972787A0B0}"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1A2E084-50D3-42DE-9217-91499FB945BA}"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B9B5EC3-0A34-4EEB-B298-1C0F727AE37E}"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5E0846A-B673-44D4-8E13-0186DBA80E20}"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36EC737-6866-493A-9CCB-7CBBFE5ADCFE}"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96C959BB-8F25-4981-AA21-514432124EF8}"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8FD30D0-C930-48B2-965B-0641A9D1A5C1}"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4C5CE53-5BD3-4CB2-BCB0-EB13ED7BA6C3}"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9300639-AA11-42FA-A5CD-6A94165D17D2}"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39BFD54-7BBF-4A89-B351-F617741587E0}"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765B27B-E736-4C0A-9584-1790E5813815}"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